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EFBB-1DC4-406D-9953-EB7EE5465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4D53-4FE3-4EA8-9B9A-DD47F1DC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EDA9-1F47-41C5-8D37-4C21D1A61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E5E8-02E4-4FF3-9FC9-ECD895ECE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CB9B-01E2-4A7F-A75C-34008DE6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15CC-01FE-4982-9B39-6F47E986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70CE-4CD3-40F3-B3F1-CAD7E75C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A145-9A2F-4DC0-9BC0-FB374234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F886-36CC-4000-8A55-FEF62449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578A-DECB-4423-85CC-2910421B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E3EE-CE2D-4464-93A6-BE1B1279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E14C-871F-4A6F-87BB-1E93E08F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7DF0-8EF3-4BD3-998B-668094A3B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5280" y="692280"/>
            <a:ext cx="83534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ills and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DMIN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on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dnesday 2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ov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549360"/>
            <a:ext cx="8280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les of effective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a training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B Q8 re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8360" y="692280"/>
            <a:ext cx="828036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692280"/>
            <a:ext cx="828036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aining programm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factors do I need to take into account to ensure my training programme is effect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of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 of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les of effective pract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5280" y="620640"/>
            <a:ext cx="835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692280"/>
            <a:ext cx="828036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Principles of Effective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nsity of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to rest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hievable progressive s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clear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wareness of model per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strengths and weaknes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 of boredom and fati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is a set of rules which will ensure your training is effective.  You must apply these to your trai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5280" y="620640"/>
            <a:ext cx="83534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nitoring and Evalu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we monitor trai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we evaluate trai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5280" y="620640"/>
            <a:ext cx="8353440" cy="46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Your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the training programme worksheet for your own ski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st consider the Principles of Effective pract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620640"/>
            <a:ext cx="8353440" cy="64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exam conditions you will be asked to describe the training programme you have designed.  (4) marks are availa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have 30mins to answer this ques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95280" y="620640"/>
            <a:ext cx="83534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e: Wednesday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c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ion for N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00:34Z</dcterms:created>
  <dc:creator>hamiltonp</dc:creator>
  <dc:description/>
  <dc:language>en-US</dc:language>
  <cp:lastModifiedBy>hamiltonp</cp:lastModifiedBy>
  <dcterms:modified xsi:type="dcterms:W3CDTF">2010-11-23T14:48:52Z</dcterms:modified>
  <cp:revision>12</cp:revision>
  <dc:subject/>
  <dc:title>Slide 1</dc:title>
</cp:coreProperties>
</file>